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6CB-4409-452E-ABC6-AFC83477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80A-EA20-4D3A-9E39-B2CA1E22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185-BFAC-458C-BDA3-73ACE516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28F-3658-46B2-93B5-B64EA913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ED3-87D0-4F7C-AB57-C13E7DB1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84C-3DEE-434A-8E61-FD2E643A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8AB-A413-49F0-93E9-CB18905C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F1B-DC8F-45E3-9339-23F4E819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C01-5BF1-4CE5-8100-FEDF0743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BEC-A932-4238-862C-C7595DF1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42D-4B53-4E24-AF7D-224C3720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DED-B1B9-406E-B523-9F05F325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EC4B-C8DE-409F-8AFF-71F5A5342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S=96062857/K=betsy+ross/v=2/SID=e/l=II/R=4/SS=i/OID=eab456b4be9c1b96/SIG=1c8055b0i/EXP=1140828582/*-http%3A//images.search.yahoo.com/search/images/view?back=http%3A%2F%2Fimages.search.yahoo.com%2Fsearch%2Fimages%3Fei%3DUTF-8%26fr%3Dsfp%26p%3Dbetsy%2Bross&amp;w=122&amp;h=216&amp;imgurl=www.tracyfineart.com%2Fusmc%2Fimages%2Fgraphics%2Fbetsy_ross.jpg&amp;rurl=http%3A%2F%2Fwww.tracyfineart.com%2Fusmc%2Flinks.htm&amp;size=28.3kB&amp;name=betsy_ross.jpg&amp;p=betsy+ross&amp;type=jpeg&amp;no=4&amp;tt=4,558&amp;ei=UTF-8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S=96062857/K=betsy+ross/v=2/SID=e/l=II/R=7/SS=i/OID=26ef0bd4642f3724/SIG=1cnotpg1k/EXP=1140828582/*-http%3A//images.search.yahoo.com/search/images/view?back=http%3A%2F%2Fimages.search.yahoo.com%2Fsearch%2Fimages%3Fei%3DUTF-8%26fr%3Dsfp%26p%3Dbetsy%2Bross&amp;w=450&amp;h=553&amp;imgurl=www.film.org%2Fimages%2Flocations%2F98_Betsy-Ross-House.jpg&amp;rurl=http%3A%2F%2Fwww.film.org%2Fproduction%2Flocation.php%3Fid%3D98&amp;size=45.3kB&amp;name=98_Betsy-Ross-House.jpg&amp;p=betsy+ross&amp;type=jpeg&amp;no=7&amp;tt=4,558&amp;ei=UTF-8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S=96062857/K=betsy+ross/v=2/SID=e/l=II/R=13/SS=i/OID=3651b92a4136abf0/SIG=1epefcr5b/EXP=1140828582/*-http%3A//images.search.yahoo.com/search/images/view?back=http%3A%2F%2Fimages.search.yahoo.com%2Fsearch%2Fimages%3Fei%3DUTF-8%26fr%3Dsfp%26p%3Dbetsy%2Bross&amp;w=67&amp;h=100&amp;imgurl=dist.houstonisd.org%2Fwestcentral%2Fschools%2Fhorn%2FWax%2520Museum%2Fthumbnails%2FBetsy_Ross_jpg.jpg&amp;rurl=http%3A%2F%2Fdist.houstonisd.org%2Fwestcentral%2Fschools%2Fhorn%2FWax%2520Museum%2Findex1.htm&amp;size=2.5kB&amp;name=Betsy_Ross_jpg.jpg&amp;p=betsy+ross&amp;type=jpeg&amp;no=13&amp;tt=4,558&amp;ei=UTF-8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S=96062857/K=betsy+ross/v=2/SID=e/l=II/R=17/SS=i/OID=db7989c84123e99c/SIG=1clh7lpeb/EXP=1140828582/*-http%3A//images.search.yahoo.com/search/images/view?back=http%3A%2F%2Fimages.search.yahoo.com%2Fsearch%2Fimages%3Fei%3DUTF-8%26fr%3Dsfp%26p%3Dbetsy%2Bross&amp;w=300&amp;h=210&amp;imgurl=www.lonestarcowboygear.com%2Fimages%2Fsigns%2Fbetsy_ross_large.jpg&amp;rurl=http%3A%2F%2Fwww.lonestarcowboygear.com%2Fimages%2Fsigns&amp;size=21.0kB&amp;name=betsy_ross_large.jpg&amp;p=betsy+ross&amp;type=jpeg&amp;no=17&amp;tt=4,558&amp;ei=UTF-8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S=96062857/K=betsy+ross/v=2/SID=e/l=II/R=31/SS=i/OID=313915e5439ace60/SIG=1d0m5csll/EXP=1140828891/*-http%3A//images.search.yahoo.com/search/images/view?back=http%3A%2F%2Fimages.search.yahoo.com%2Fsearch%2Fimages%3Fei%3DUTF-8%26p%3Dbetsy%2Bross%26fr%3Dsfp%26b%3D21&amp;w=510&amp;h=395&amp;imgurl=lcweb2.loc.gov%2Fammem%2Ftoday%2Fimages%2F0614betsy_big.jpg&amp;rurl=http%3A%2F%2Fwww.marcopolo-education.org%2Fpartner%2F27ed_banner.cfm&amp;size=83.9kB&amp;name=0614betsy_big.jpg&amp;p=betsy+ross&amp;type=jpeg&amp;no=31&amp;tt=4,558&amp;ei=UTF-8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S=96062857/K=betsy+ross/v=2/SID=e/l=II/R=32/SS=i/OID=18cc1408295827ca/SIG=1el4skhb9/EXP=1140828891/*-http%3A//images.search.yahoo.com/search/images/view?back=http%3A%2F%2Fimages.search.yahoo.com%2Fsearch%2Fimages%3Fei%3DUTF-8%26p%3Dbetsy%2Bross%26fr%3Dsfp%26b%3D21&amp;w=448&amp;h=299&amp;imgurl=www.slsj.net%2Fphotos%2Fplaces%2FPhiladelphia%2Fgrave%2520of%2520betsy%2520ross.JPG&amp;rurl=http%3A%2F%2Fwww.slsj.net%2Fphotos%2Fplaces%2FPhiladelphia%2Ftrip_to_philadelphia.htm&amp;size=22.1kB&amp;name=grave%20of%20betsy%20ross.JPG&amp;p=betsy+ross&amp;type=jpeg&amp;no=32&amp;tt=4,558&amp;ei=UTF-8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sy R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etsy Ross </a:t>
            </a:r>
            <a:r>
              <a:rPr b="1" i="1" lang="en-US" sz="4400" spc="-1" strike="noStrike">
                <a:solidFill>
                  <a:srgbClr val="6600ff"/>
                </a:solidFill>
                <a:latin typeface="Arial"/>
              </a:rPr>
              <a:t>Sewing Th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1219320"/>
            <a:ext cx="5133960" cy="533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 flipH="1">
            <a:off x="-2667240" y="-22860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sy Ross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1447920"/>
            <a:ext cx="4694040" cy="4352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 flipH="1">
            <a:off x="-360" y="-60948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sy As A K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1752480"/>
            <a:ext cx="324000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 flipH="1">
            <a:off x="-360" y="-53352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143000"/>
            <a:ext cx="8153280" cy="5486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 flipH="1">
            <a:off x="-360" y="-76212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sy Presenting Th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3270240"/>
            <a:ext cx="5410080" cy="3587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flipH="1">
            <a:off x="-360" y="-53352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e Of Betsy R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295280"/>
            <a:ext cx="7696440" cy="4953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 flipH="1">
            <a:off x="-360" y="-60948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sy Is In School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Go to fullsize image"/>
          <p:cNvPicPr/>
          <p:nvPr/>
        </p:nvPicPr>
        <p:blipFill>
          <a:blip r:embed="rId2"/>
          <a:stretch/>
        </p:blipFill>
        <p:spPr>
          <a:xfrm>
            <a:off x="1295280" y="1295280"/>
            <a:ext cx="6934320" cy="5181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 flipH="1">
            <a:off x="-360" y="-68580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20:56:21Z</dcterms:created>
  <dc:creator>n646213</dc:creator>
  <dc:description/>
  <dc:language>en-US</dc:language>
  <cp:lastModifiedBy>lyerkes</cp:lastModifiedBy>
  <dcterms:modified xsi:type="dcterms:W3CDTF">2011-05-24T18:33:05Z</dcterms:modified>
  <cp:revision>6</cp:revision>
  <dc:subject/>
  <dc:title>Slide 1</dc:title>
</cp:coreProperties>
</file>